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01F1-222E-4FEB-B915-B721DD6E0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3123-B8B1-46C6-A835-9A82840B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C7603-043F-43B7-AD8E-546F434A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DC715-F71B-4F49-8059-363CA937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2C35E-693F-482C-BA35-5A8740B9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C8138-3C3C-47BB-8CE2-E3DE8B07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584DE-C523-445E-A395-DEDA1953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3F573-A624-419D-9219-9F9440B0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AB78F-547C-4ADF-846F-96C13688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CD948-263F-4F15-82BD-5CED1576B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FFD6B-47BC-4931-8F3B-087602B2E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44E931-64EB-4DA4-827D-376A111DD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6C4B-0292-4784-ACC6-2ACBA3701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172B10-8F1B-4CCE-954C-6F1B441E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3841CE-385E-4401-90D2-48231D49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7C254E-5F03-4FEB-BA39-20D6B638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82C065-09D6-4C4D-9937-4F6270D9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F79DB-AF90-4302-9865-89651F7A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AD2C76-9523-47CC-B2FE-B91C0B1C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25C24-8356-4E86-B18C-D7D60B4D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105C35-B846-44B4-8C80-FE866D98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9B1E9C-8434-41C1-B4F7-0F196328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ACCE98-D909-49F7-9E61-E599B7ED8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5657-AB8B-4F3F-AAAA-FCDCEAEFA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C20049-3CAD-4DD8-9453-530F17F40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61A6CF-769A-461C-B567-816CE53FB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59C1A1-2360-47E2-A5C7-CE0E74ED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B8E4CF-A72B-41FC-923C-307D76EB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4C14E5-3B21-43C0-A77F-8D9A50A3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50FB02-C961-4909-94E8-28ECF293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3A7A3F-1325-4BF4-B908-B10FF71A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35C0F3-5A22-4A5B-8A2C-319CF614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367938-3813-4058-9FF7-1909F282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577207-9309-4322-9D82-CC31C7F6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9D9D-9431-4337-950C-0EEC5160C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4BC8EE-C722-41FD-B077-0A16C350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EB7792-3636-4E72-A017-B4BB730A5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C1DE99-1462-48BB-AAD8-CC454B465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FE9939-14B5-48A5-AF97-A232DAD81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551D1-9906-415F-A337-6E0A5B9F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E2ACF5-55B9-438B-8C2D-DFD1F5CA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569D6F-6268-48AA-B430-CF1B3F8E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3C295-3BCE-44F2-B730-AC186D0A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BC38F-B933-4EA7-9FE2-28B030E0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0D0FC-E136-4B39-902C-85B5AB73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6954-01B1-417E-A87E-DCD8C06C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F07419-50CA-4F5A-A085-56024EE2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ADE41-C822-4B17-9E74-0AEE81C5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336729-523C-4E11-9F21-62B85158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46B2DA-05A1-4810-86B9-BA54B22EC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8F534-707F-4FC6-A54F-46E9A7789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4DF1D3-1A1E-4B7B-9EEF-D98C0A029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6015A6-1755-4C58-996E-49EB67BD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672222-DC9E-4197-BB95-17FEF924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0A555B-B3FA-4AA4-94E0-DF4E2ADC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61C35C-FBD1-48C4-8207-36415008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631D-50B8-41DE-8E45-BD941733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3ACB7C-EE74-401C-829E-3A265BEB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8DA141-A80C-435D-A89B-399EB7BC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DDFB0B-9EA5-4ADF-8533-E954D2B1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0ECAF2-21C4-443B-8807-676B061B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CC2B22-FD00-4A90-8B60-DDCDE820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FA1D4A-6A85-4203-ACF3-2B5FBA022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EE1183-917E-4796-ADFB-97CE90F52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12638E-FE2F-4BD0-A5AF-8CB02B70A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A16DB3-C688-4BF5-8F62-1FE639B9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E7E46C-E463-48EA-B430-496822AF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447C-548B-4959-99FA-467BA220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A4F6D3-377E-4A16-8DB2-FE422009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9E4269-FCD3-467B-AA6B-B87DB68C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60887E-7D85-46EC-94C7-D3B68678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84AB9A-CE29-4FCE-9D38-82029B34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768469-F8D4-424F-AF95-3B8195F2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42C0A7-B694-4D36-BD74-F3F69098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6EB867-C1A6-4098-9AEE-8725F2D2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0B4930-5782-4CBC-A080-9CCEA390B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A34771-E415-436D-9266-811432D32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8F1E59-FEAA-4235-9C11-4A3606B83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7B707-F4EB-4334-B469-E65E93B8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AA0A8A-CEE3-4FE5-B41D-B0A1654F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033C76-124B-4B5B-8A31-A608401B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28F241-FFDD-4B5B-A727-5ACA0041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F7124E-6903-4ED2-9FAE-AAAED0FB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CE902F-1DBA-49DE-9D3B-1727AFA2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CC97C5-A508-4361-B59A-B7BB3D55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E631F4-EA13-4184-A5BF-116DC458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9E33F2-08B1-44EB-804B-15433A70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932544-61A7-49BD-878D-B12DBCAD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68A716-151F-47C6-8F8A-2B2A6E14C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1FA1F-C1F0-4819-A67D-5635F2B2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AA98CA-19B5-4F1F-8B04-6AF9B965C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783A62-B584-4C09-94AC-0C23C06BE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74F996-8AC3-4ECD-A75F-BDDFABCF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271780-A3D1-40A2-AA78-EF550BA4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8D842B-D41D-4580-A3E4-69715C86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D11AA6-989C-47AF-81A6-0348386E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D9A75F-80BD-4AB6-AC2F-1EBC4235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62C8BA-D789-4ADD-A174-51D6AF26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FF1EF8-29AB-4619-98F1-C032115C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7F4EE0-6AF8-4401-AF1D-65E92D7D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003F-422C-4E08-8BA0-099061FF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8636D5-5A89-4AC8-A50A-868D084D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3615CB-906F-469B-91EF-6FDD63421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192D15-DF94-4D8D-B9CC-37E24E2A2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7460D8-A0D5-4C8C-92B7-72DDA7AE5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6900ED-8725-4D27-B0D1-6F893C14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3F22B4-72E4-4460-AF15-D2F86535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D0BB45-B902-4362-97B5-E3496F6D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0CD479-6146-442C-B373-B836198C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78F142-8AEA-4DA0-B971-2230E542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4C2E3E-A7A9-4FDA-BA95-9281FDF9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4C56-8872-4272-B09E-54C283EC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6D7D-DC9C-4309-A345-04DDD866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6C3F34-C951-404B-A391-8D4C14F0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494D31-720E-42EB-8228-959DEA7D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8A5AB0-16D5-4197-A114-0578D715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1477CE-5F4E-4C6E-852B-D57A081BD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4A4154-E06E-43B6-B865-0B6278E9E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0F64A1-514B-4CD8-A26E-F0E4E522E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C1DE22-33DD-4DA0-B8B6-C0B6778D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8D07B4-8A34-4245-B603-9563F291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4ADBDB-BB29-4BFE-A923-237C0428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3D834B-B6F6-4529-BA07-A20887E9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A2E5-F600-44E9-BA62-EA0009AD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9095A9-4871-42AD-B43C-0C16AEE9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2BD9AF-883C-4B0D-9578-0D1EF535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BA3036-233A-44C5-B56F-C74C2D85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9880D4-7034-4AA0-BA38-25F0B904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A6C674-EC31-4658-871E-15C748D3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89C30C-EDB4-42E6-8DBA-8385FD7AB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3A7751-4EB0-44E6-A7F0-E569EE8F0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50CE4D-C785-4074-A3DF-36250152F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1CD4E9-D456-4EE8-BE0B-962A879B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1A1867-B1D4-478A-8B1D-FCBA0B9C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BBE6-12FE-429B-942E-90545CA6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E33A77-CE2E-48D2-8CFB-9B67E0DA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CC18DD-D96F-4C6C-932B-2AD11C0B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2BDB7F-94D8-4ECA-A83C-BA5E3F82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F35546-08BF-4331-BCA5-EA84E488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390E8B-7B45-4D25-A144-EB20B5A3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6EDC54-B867-4D74-8D45-14279F86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899513-9B67-4F2F-BB29-320E7700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02CE6F-ABB3-4F89-A00F-6E968CD9B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593763-EBA4-4057-8C27-DE9805A9E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61C625-767F-4A74-82AE-BC170E7F1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2F2E-C838-4DBE-870A-1B5F475A1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950D09-52E0-452E-B1E0-B601B812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01668B-3E10-4922-82DC-63BC0938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F49985-BEC5-4B49-99B7-B071AF4E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58C026-CD51-4FB1-9DD1-D7FFD451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036C59-6DE9-4D81-908A-E986A525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5A66B8-B9BD-4AE1-B7BD-ABC73D03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F5616D-56F8-4552-A9F0-3E0D0023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6B3E6B-2528-4ACE-9765-277C3AE8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757B01-B6A6-4627-84F0-80C26670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3D35C9-C079-40BD-8B20-FB0A4153C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040B-0EB9-447A-9C2D-847EBE4AE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7D7959-D2BE-4DD2-B38A-16D68E6D3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AB4919-B444-446A-A541-F03E47C2C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C7C3D1-04B3-4FE3-9766-DBF2E084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6614FD-F5C6-4735-8645-4B548F89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C9B6CE-9F79-4B54-9F55-A58B3DDD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A63B8A-9726-4E29-86C1-3C5AA8B8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3A5BE6-AEBA-49D7-84AB-F681CC1F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15CBDF-151F-42B5-884D-F8A2657C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93E764-1719-4C75-A667-489A18AC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EDBAA4-E73A-4E7B-8311-C830C755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920E48-C649-4880-9438-CDDD9DA1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0A3C38-A3C7-4F6E-BD94-435E76827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6F206D-9AA6-4508-B8F3-97529AD3F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0937-3509-4E8A-9B95-36DA89EA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01A3D-05FF-413C-B6AD-9268DB134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A0C38-1FC6-410D-BD25-BAF0B78E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4301A-A8EA-4069-AD76-E2D02819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3E77-78D3-43BD-A069-73E36855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C090A-B0B1-4B7A-81E7-6BB3682F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1B9C9-93DD-4AF0-80EF-6C624A7B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01872-F9D8-4DE0-AF61-B93F677B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CE5CA-8B97-4D6F-B520-AF9E839E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E7089-7B7C-47DA-991A-2C25390E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9FC7A-31DB-4024-A7CA-5D7F1352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DFE89-9513-404C-B3D2-33A87335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87F75-6216-4779-9879-637C2A74C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A8F7A-AEFA-423D-9365-D89EBBE71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08196-03B0-4C63-A616-68DFB0A74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9DEB-CB4D-4BDC-8B93-95450C6D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4DBA7-EEB8-4988-AB76-46C29B82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F422B-351A-48F3-A6EE-FF00FCE2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886D0-50BD-4AC5-9C98-EE9BB10D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92607-E11D-48A7-8735-05716DB1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7C481-28E4-4BF3-8F7A-0926AC2D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020C0-3E1B-45C0-B772-046CDEE3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57514-D770-455C-80B8-68F9707A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1A227-6C4B-4710-8BD8-243FBAD2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35E90-A36B-406A-8C08-081BBD9ED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58371-BE34-4318-8B25-E23AA1C0A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8D26-8453-4111-B8BA-C4B0011B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E9590-3F51-4EB1-BED1-237202E3D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7FDF7-9A02-4399-8249-7230C567D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8FEDC-502B-41A5-BF0F-0A33B3D5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793E2-620E-4E48-BAFA-837DA7ED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54CC3-9958-4BAA-BA4D-7F53D73E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F3F1A-960E-4032-9DC9-763427D0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725EA-A343-46FB-8E43-4C346FAA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4AC3F-4139-4015-AB0C-3A0986D8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F8BBC-ABE5-41FE-BD36-8F572E4F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56B86-ED11-4A01-A4DC-720D2065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B941-D882-4161-BC61-E8D95DF2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95DE6-A6A2-4D17-A16C-C9193D9B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99FF1-D261-4714-80C9-66F6043AA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64A56-6422-4374-A353-28321D20E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FBCF0-7BB6-425A-9A36-79B9F10DF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C1F04-6392-4D74-8484-9D9FB1F1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3B3F4-8A50-4EBE-97AC-3DE9818B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BC7CF-7EE1-4FA5-B07D-39B2C701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4EB70-498F-4F4A-AD0C-86A07A51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95779-CAA7-4A26-8980-CC6A509F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DA8C3-8653-4788-B8A7-1C331357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872F-06FE-44DC-A5A1-CB2C7EE2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B6126-A705-4C5B-B477-A63087CC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E7F01-1BF9-41CE-9262-4FB323B2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B462C-ABF3-4168-BFD5-C76F1644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03438-9D4C-4BB0-B814-91BD0E215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802D2-5293-45B2-B0C4-64BD7B4E6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8393E-2E12-430A-A0E9-830B40D8F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D319B-FF4B-46A7-AB5F-BEEC1D74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5B106-E380-49E5-809A-8B6FE066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DE22C-1ADC-4CBF-B8F7-FEB18298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D7FA6-0A65-4A75-AB45-E940098F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BC7F-2665-4B1C-9952-8B06F8FA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DDAE5-EDFA-40F6-8E2B-41D1A633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A56BC-BB01-4B3B-BF7A-9A3E0349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C87D6-F825-4327-BD54-F860BE06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8F0A7-6FC9-4346-8EB9-908C1615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7F0E8-E132-4C75-94AE-B7A6C380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D3326-014C-4C7B-A6A6-74C035F0A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2F1D5-600A-4E45-BE3C-0204BD177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6C94C-FAE5-4B28-96A0-698567AEB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A8161-9A6C-4156-9916-4AA5AB1D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34ED6-FA37-4871-AB60-4801DA75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B96D-E136-4CAA-A642-B18D3339A8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12D46-E33A-4DE2-8B38-D5A34BEE66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00F6-0153-4F26-878C-22C1EB9C8F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FE26-D027-443E-A3F8-7C4250215C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461F-962B-43DB-96E6-12E4575A6C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61EA-543C-4FD0-93AB-CFF774076A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738A-9AD3-45E6-91FE-A9D0F44540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CF50-474A-4F65-8C9D-BD7830995F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9FE2-CAED-4D85-8C91-8882D731BE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5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6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07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8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09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1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2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4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5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1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30FB-9D1F-4112-9B6F-EE8E0CFA0C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B856-EC93-4E7F-9024-C06702831C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67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68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3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4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F191-2503-4D8F-8F08-49F425532F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CB84-4E81-4C1A-A311-DB02ACBE59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5E8C-A548-4DE5-92FB-7C4E7D6EE6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2FD3-2C07-459B-BCCA-A37F4C02B4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5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6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2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F05D-D153-4223-B6C8-BECF36E3A5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0FEE-0F09-45A9-962F-87FA1185BD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9849-1BFF-435C-A698-C144F6C93A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1A25-4494-440D-B573-11B1C6D698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3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4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7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68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E8D8-FC31-400F-895E-3986351020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F9CF-DA73-45B5-8EA0-CD060F8B12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80E0-6A11-4F60-A363-40ABC50806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1F54-42CF-4A52-A257-7A9FD20FC6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F328-6800-4335-9B09-83A47DD47C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232D-2727-4746-8ED4-AFC83B55B2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59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0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1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2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4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5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7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68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69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4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5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943F-4109-44A9-AD0B-B2101109B0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6B13-C788-455A-8D93-1D7A24968A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3078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6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28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4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EBAE-0965-4253-8AD4-B36DF212C8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F21D-EF12-4AC0-8D6F-F9CB3462EA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FEE6-FCC5-41D5-9D57-49AFE26C95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8555-AFE0-47C1-803E-CA6A6F1F26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3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4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5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1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8450-67D8-4607-9AA5-F8ECC9AD0D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7CA4-E0DE-4123-827E-4C117727B1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1919-30C4-4E8F-833F-A2CD11A3B8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1D9A-82BE-4493-BC05-D387D7A3A0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9FDF-A549-4249-89AC-266515060D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D500-D389-4CA2-8A52-879EDD0276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5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67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1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7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8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89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B6AF-E9D3-4260-83BF-1C85CAF5F3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86E8-8577-4487-9FE5-B15D057933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1" name="图片 2051" descr=""/>
          <p:cNvPicPr/>
          <p:nvPr/>
        </p:nvPicPr>
        <p:blipFill>
          <a:blip r:embed="rId1"/>
          <a:stretch/>
        </p:blipFill>
        <p:spPr>
          <a:xfrm>
            <a:off x="2743200" y="2060640"/>
            <a:ext cx="3413160" cy="1027080"/>
          </a:xfrm>
          <a:prstGeom prst="rect">
            <a:avLst/>
          </a:prstGeom>
          <a:ln w="0">
            <a:noFill/>
          </a:ln>
        </p:spPr>
      </p:pic>
      <p:pic>
        <p:nvPicPr>
          <p:cNvPr id="1022" name="图片 2052" descr=""/>
          <p:cNvPicPr/>
          <p:nvPr/>
        </p:nvPicPr>
        <p:blipFill>
          <a:blip r:embed="rId2"/>
          <a:stretch/>
        </p:blipFill>
        <p:spPr>
          <a:xfrm>
            <a:off x="623880" y="3287880"/>
            <a:ext cx="789624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7" name="图片 13313" descr=""/>
          <p:cNvPicPr/>
          <p:nvPr/>
        </p:nvPicPr>
        <p:blipFill>
          <a:blip r:embed="rId1"/>
          <a:stretch/>
        </p:blipFill>
        <p:spPr>
          <a:xfrm>
            <a:off x="409680" y="874800"/>
            <a:ext cx="8324640" cy="536256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2"/>
          <a:stretch/>
        </p:blipFill>
        <p:spPr>
          <a:xfrm>
            <a:off x="1042920" y="2089080"/>
            <a:ext cx="7058160" cy="44928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3"/>
          <a:stretch/>
        </p:blipFill>
        <p:spPr>
          <a:xfrm>
            <a:off x="684360" y="3903840"/>
            <a:ext cx="7057800" cy="44892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4"/>
          <a:stretch/>
        </p:blipFill>
        <p:spPr>
          <a:xfrm>
            <a:off x="684360" y="5689440"/>
            <a:ext cx="70578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3" name="图片 14337" descr=""/>
          <p:cNvPicPr/>
          <p:nvPr/>
        </p:nvPicPr>
        <p:blipFill>
          <a:blip r:embed="rId1"/>
          <a:stretch/>
        </p:blipFill>
        <p:spPr>
          <a:xfrm>
            <a:off x="333360" y="793800"/>
            <a:ext cx="8477280" cy="551484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2"/>
          <a:stretch/>
        </p:blipFill>
        <p:spPr>
          <a:xfrm>
            <a:off x="2987640" y="152712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3"/>
          <a:stretch/>
        </p:blipFill>
        <p:spPr>
          <a:xfrm>
            <a:off x="2987640" y="273672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4"/>
          <a:stretch/>
        </p:blipFill>
        <p:spPr>
          <a:xfrm>
            <a:off x="2771640" y="456732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5"/>
          <a:stretch/>
        </p:blipFill>
        <p:spPr>
          <a:xfrm>
            <a:off x="2973240" y="515772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0" name="图片 15361" descr=""/>
          <p:cNvPicPr/>
          <p:nvPr/>
        </p:nvPicPr>
        <p:blipFill>
          <a:blip r:embed="rId1"/>
          <a:stretch/>
        </p:blipFill>
        <p:spPr>
          <a:xfrm>
            <a:off x="1285920" y="990720"/>
            <a:ext cx="6572160" cy="487656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2"/>
          <a:stretch/>
        </p:blipFill>
        <p:spPr>
          <a:xfrm>
            <a:off x="3203640" y="158580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5" name="图片 22529" descr=""/>
          <p:cNvPicPr/>
          <p:nvPr/>
        </p:nvPicPr>
        <p:blipFill>
          <a:blip r:embed="rId1"/>
          <a:stretch/>
        </p:blipFill>
        <p:spPr>
          <a:xfrm>
            <a:off x="476280" y="2081160"/>
            <a:ext cx="8191440" cy="2695680"/>
          </a:xfrm>
          <a:prstGeom prst="rect">
            <a:avLst/>
          </a:prstGeom>
          <a:ln w="0">
            <a:noFill/>
          </a:ln>
        </p:spPr>
      </p:pic>
      <p:sp>
        <p:nvSpPr>
          <p:cNvPr id="1026" name="椭圆 22530"/>
          <p:cNvSpPr/>
          <p:nvPr/>
        </p:nvSpPr>
        <p:spPr>
          <a:xfrm>
            <a:off x="1519200" y="3616200"/>
            <a:ext cx="647640" cy="50328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椭圆 22531"/>
          <p:cNvSpPr/>
          <p:nvPr/>
        </p:nvSpPr>
        <p:spPr>
          <a:xfrm>
            <a:off x="4932360" y="3573360"/>
            <a:ext cx="934920" cy="57636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椭圆 22532"/>
          <p:cNvSpPr/>
          <p:nvPr/>
        </p:nvSpPr>
        <p:spPr>
          <a:xfrm>
            <a:off x="7308720" y="3616200"/>
            <a:ext cx="576360" cy="50508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椭圆 22533"/>
          <p:cNvSpPr/>
          <p:nvPr/>
        </p:nvSpPr>
        <p:spPr>
          <a:xfrm>
            <a:off x="1994040" y="4278240"/>
            <a:ext cx="647640" cy="43200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椭圆 22534"/>
          <p:cNvSpPr/>
          <p:nvPr/>
        </p:nvSpPr>
        <p:spPr>
          <a:xfrm>
            <a:off x="4500720" y="4292640"/>
            <a:ext cx="502920" cy="43164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椭圆 22535"/>
          <p:cNvSpPr/>
          <p:nvPr/>
        </p:nvSpPr>
        <p:spPr>
          <a:xfrm>
            <a:off x="7294680" y="4292640"/>
            <a:ext cx="401400" cy="40320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4" name="图片 21505" descr=""/>
          <p:cNvPicPr/>
          <p:nvPr/>
        </p:nvPicPr>
        <p:blipFill>
          <a:blip r:embed="rId1"/>
          <a:stretch/>
        </p:blipFill>
        <p:spPr>
          <a:xfrm>
            <a:off x="457200" y="1209600"/>
            <a:ext cx="8229600" cy="443880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2"/>
          <a:stretch/>
        </p:blipFill>
        <p:spPr>
          <a:xfrm>
            <a:off x="1547640" y="19890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3"/>
          <a:stretch/>
        </p:blipFill>
        <p:spPr>
          <a:xfrm>
            <a:off x="1547640" y="393372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9" name="图片 20481" descr=""/>
          <p:cNvPicPr/>
          <p:nvPr/>
        </p:nvPicPr>
        <p:blipFill>
          <a:blip r:embed="rId1"/>
          <a:stretch/>
        </p:blipFill>
        <p:spPr>
          <a:xfrm>
            <a:off x="409680" y="1305000"/>
            <a:ext cx="8324640" cy="424800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2"/>
          <a:stretch/>
        </p:blipFill>
        <p:spPr>
          <a:xfrm>
            <a:off x="755640" y="134136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3"/>
          <a:stretch/>
        </p:blipFill>
        <p:spPr>
          <a:xfrm>
            <a:off x="755640" y="321300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4" name="图片 8193" descr=""/>
          <p:cNvPicPr/>
          <p:nvPr/>
        </p:nvPicPr>
        <p:blipFill>
          <a:blip r:embed="rId1"/>
          <a:stretch/>
        </p:blipFill>
        <p:spPr>
          <a:xfrm>
            <a:off x="471600" y="2523960"/>
            <a:ext cx="8200800" cy="18100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2"/>
          <a:stretch/>
        </p:blipFill>
        <p:spPr>
          <a:xfrm>
            <a:off x="826920" y="263700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8" name="图片 9217" descr=""/>
          <p:cNvPicPr/>
          <p:nvPr/>
        </p:nvPicPr>
        <p:blipFill>
          <a:blip r:embed="rId1"/>
          <a:stretch/>
        </p:blipFill>
        <p:spPr>
          <a:xfrm>
            <a:off x="95400" y="974880"/>
            <a:ext cx="8953200" cy="53337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2"/>
          <a:stretch/>
        </p:blipFill>
        <p:spPr>
          <a:xfrm>
            <a:off x="5796000" y="1773360"/>
            <a:ext cx="3024000" cy="4492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3"/>
          <a:stretch/>
        </p:blipFill>
        <p:spPr>
          <a:xfrm>
            <a:off x="6443640" y="4119480"/>
            <a:ext cx="2160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3" name="图片 10241" descr=""/>
          <p:cNvPicPr/>
          <p:nvPr/>
        </p:nvPicPr>
        <p:blipFill>
          <a:blip r:embed="rId1"/>
          <a:stretch/>
        </p:blipFill>
        <p:spPr>
          <a:xfrm>
            <a:off x="480960" y="1052640"/>
            <a:ext cx="8182080" cy="475272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2"/>
          <a:stretch/>
        </p:blipFill>
        <p:spPr>
          <a:xfrm>
            <a:off x="6372360" y="1095480"/>
            <a:ext cx="2303280" cy="4492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3"/>
          <a:stretch/>
        </p:blipFill>
        <p:spPr>
          <a:xfrm>
            <a:off x="5003640" y="3414600"/>
            <a:ext cx="388944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8" name="图片 12289" descr=""/>
          <p:cNvPicPr/>
          <p:nvPr/>
        </p:nvPicPr>
        <p:blipFill>
          <a:blip r:embed="rId1"/>
          <a:stretch/>
        </p:blipFill>
        <p:spPr>
          <a:xfrm>
            <a:off x="466560" y="2190600"/>
            <a:ext cx="8210880" cy="247680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2"/>
          <a:stretch/>
        </p:blipFill>
        <p:spPr>
          <a:xfrm>
            <a:off x="4932360" y="2247840"/>
            <a:ext cx="3600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2" name="图片 11265" descr=""/>
          <p:cNvPicPr/>
          <p:nvPr/>
        </p:nvPicPr>
        <p:blipFill>
          <a:blip r:embed="rId1"/>
          <a:stretch/>
        </p:blipFill>
        <p:spPr>
          <a:xfrm>
            <a:off x="85680" y="1276200"/>
            <a:ext cx="8972640" cy="430560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2"/>
          <a:stretch/>
        </p:blipFill>
        <p:spPr>
          <a:xfrm>
            <a:off x="1332000" y="3255840"/>
            <a:ext cx="6985080" cy="4492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3"/>
          <a:stretch/>
        </p:blipFill>
        <p:spPr>
          <a:xfrm>
            <a:off x="1042920" y="5070600"/>
            <a:ext cx="77058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41:12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